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3D1-D487-4E65-8C8A-1DDC0019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5DD-3C0D-4B66-89CC-D6BA2E43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BA3-8816-4CFA-AAD2-9B451289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947A-9CD6-4503-A21E-67E6F2BD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E48C-D46D-44E4-BC9F-8092EFC7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5ED5-DDC8-40E0-8870-6075547B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9D6D-1463-404D-981E-65033C44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57BE-DC53-4E82-B0FA-D5FA0113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C895-3F96-48D7-89C6-50653C4A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F0FA-3B4B-4700-B516-7E4E3F6F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559C-1F3F-4474-8BB7-F772C88D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F964-A644-4F02-A32B-28CC361A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B952-064F-4B04-911D-62B6249C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DE5B-FDAB-47A7-86CD-848A45B7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9D08-2633-4D30-BB40-D0EA29CF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54C4-89CD-47FA-BB3C-5BA61703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8D09-D349-4A1F-B67D-325232CD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D69-BDF6-486B-9B43-7DD887EC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6616-67F2-4223-ABB0-19A82049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E0FA-826C-41D3-89F5-06A3B84C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B61-3EC0-48E5-AD32-E658C000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CDF-6813-4964-9E36-D4887316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55D-3B3B-4EB1-A473-DCBFBD89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29F2-296F-4AD3-BC07-FEA23E6A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5A58-95BE-43F1-A7E0-C4BC4F9F058B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F19D-2EDC-4214-8FE1-74279863933D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CA27-71E8-4192-BD5D-2712F3A595B8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C3CA-045F-4008-ADDD-D6830D78BE61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99"/>
                </a:solidFill>
                <a:latin typeface="Sylfaen"/>
              </a:rPr>
              <a:t>Evaluarea nevoilor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ercetarea de pia</a:t>
            </a:r>
            <a:r>
              <a:rPr b="0" lang="ro-RO" sz="2400" spc="-1" strike="noStrike">
                <a:solidFill>
                  <a:srgbClr val="339966"/>
                </a:solidFill>
                <a:latin typeface="Tahoma"/>
              </a:rPr>
              <a:t>ţă şi nevoile clienţilor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1E73-CACD-47BA-B4D4-583E2C6A849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A186D0E-E0ED-4F61-B16E-F65EA2EB9FDA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Tem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600" spc="-1" strike="noStrike">
                <a:solidFill>
                  <a:srgbClr val="ff6699"/>
                </a:solidFill>
                <a:latin typeface="Comic Sans MS"/>
              </a:rPr>
              <a:t>Găsesc destinaţia ideală pentru vacanţa de var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 rot="2100000">
            <a:off x="6264000" y="285228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480000" y="1890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-6400800" y="-4800600"/>
            <a:ext cx="2633760" cy="197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4A1-6D63-41EC-B770-FA602F9C370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617A6-665E-4067-A030-02CB723AD681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e ne intereseaz</a:t>
            </a: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6699"/>
                </a:solidFill>
                <a:latin typeface="Tahoma"/>
              </a:rPr>
              <a:t>De ce merg oamenii în vacanţ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6699"/>
                </a:solidFill>
                <a:latin typeface="Tahoma"/>
              </a:rPr>
              <a:t>Cum am putea realiza o cercetare a intereselor elevilor din şcoala noastră cu privire la destinaţia turistică preferată pentru vacanţă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6699"/>
                </a:solidFill>
                <a:latin typeface="Tahoma"/>
              </a:rPr>
              <a:t>Cum putem oferi clienţilor oferta cea mai potrivită pentru vacanţ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CE47-EAF9-47A7-B723-25BEC190336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C840A-A68F-44AE-B066-8E0276534B1A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....şi mai ce ne intereseaz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Cum pot realiza o cercetare de marketing eficient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ff"/>
                </a:solidFill>
                <a:latin typeface="Tahoma"/>
              </a:rPr>
              <a:t>Citeşte mai departe şi vei afla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DE2-D429-42F6-BD01-ECE804E2FB4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24D45-198F-4819-9F49-8E27EA3CB6F5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805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Ştiu – Vreau să ştiu – Am învăţ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219320"/>
            <a:ext cx="26672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Ce ŞTIU despre cercetări de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exemple de răspun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Trebuie organiza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Se folosesc anumite metode de corcetar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Chestionarul este un instrument specific cercetărilor de marketin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1219320"/>
            <a:ext cx="2801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Ce VREAU SĂ ŞTIU despre cercetări de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Ce sunt cercetările de market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Cum stabilesc obiectivele unei cercetari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Care sunt fazele şi etapele unei cercetări complexe de marketing 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Ce metode pot fi folosite pentru o cercetare a pietei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Care este metodologia de elaborare a unui chestiona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Cum putem stabili mărimea unui eşantion şi care sunt metodele de extragere a acestuia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Cum realizez raportul final al unei cercetari de market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1219320"/>
            <a:ext cx="2666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Ce am ÎNVĂŢAT despre cercetări de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01080" y="2997360"/>
            <a:ext cx="1116000" cy="136836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164-8FF1-4F46-A5E3-27DFFB21D2A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F5124-3F80-413F-B524-BC913994999E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Pentru a răspunde la întrebări trebuie să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…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Elaborăm chestionarul necesar cercetării propus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relucrăm informaţiile culese cu ajutorul chestionarulu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Reprezentăm grafic a concluziil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Elaborăm raportul final al cercetări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2EC-B074-4C39-BCFB-DC26006FD16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0598C-8B13-4E09-9126-A5E4502CB661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5280" y="12189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De ce este necesară cercetarea pieţe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Cercetarea pieţei înaintea iniţierii unei afaceri permit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Cunoaşterea clienţilo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Previziunea vânzărilo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Cunoaşterea concurenţilor direcţi şi indirecţ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Elaborarea strategiilor de acţiune cele mai potrivite nevoilor exprimate de clienţ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Asigură creşterea profitulu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Permite adaptarea la modificările mediului extern existen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74D-39F8-4DFF-827E-1822A5C80A5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599F3-6E81-4C0A-BBD8-4D781FA29B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com</a:t>
            </a: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andă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Elaboraţi un chestionar pentru a cerceta nevoile de vacanţă ale colegilor voştri din altă clas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Aplicaţi chestionarul, prelucraţi informaţiile, elaboraţi raportul la finalul cercetăr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Elaboraţi o broşura cu propunerile voastre de destinaţii turistice pentru cei interesaţ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649E-5370-4764-9025-97148BF57D0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0986B-D0EC-4738-9948-2096C48469DA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ffffff"/>
                </a:solidFill>
                <a:latin typeface="Comic Sans MS"/>
              </a:rPr>
              <a:t>Succes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71560" y="281952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19640" y="1197000"/>
            <a:ext cx="3467160" cy="26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DBD-098F-4977-8707-E18931C5894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AA3F5-5084-4092-9FA2-36428ECC75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mona</cp:lastModifiedBy>
  <dcterms:modified xsi:type="dcterms:W3CDTF">2010-06-12T18:34:5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